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F99-70A5-4BB6-A7B3-02B0F02D1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B07F-C867-47C3-AC1D-B2800C920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8068-91CC-441A-9F55-FEB80E5EF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38E-BBE4-4713-A622-62428D28E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7D9-0BF9-45D6-B013-CA28EEC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BF4-489A-49FC-B294-743BB71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2BE-6FDA-4865-A815-CF0761A6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9D0-AD73-4DB8-9DDA-0402026C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DB9-10C1-4F3F-AC00-6094EBFE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A193-92BF-44EF-B1D2-FD4A6EF4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5FC6-0569-4271-BC09-751FA87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550E-6459-4067-9BA0-E43F8D7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952B-C4A0-43B2-82FF-C498AAA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239-438D-4F36-AACA-D3B7E646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616-200C-4229-B3C9-999607F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54F-73B5-481E-9374-463806B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7268-DCEE-4DC1-BAC2-D81A47A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236-05D0-4CDB-89F7-5B4E64D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FA6A-23F4-46EC-A762-E639AB6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1DCA-10D3-4A7F-AD3F-DE801AC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8BA4-8B19-4DE6-AAE2-F434DCC8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2CA4-90FA-4F34-BE77-EF3812F3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E29B-CDDF-4B7F-BEDB-5D12A0D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7FA4-1BB0-47D6-A104-C5FB2EBE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F6ED-0E04-4507-9141-2BA7C8C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3EBD-6845-4CBF-9DEC-D043E819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5D5-97B6-41C9-A3F9-0EC84BE9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DED5-9E47-41DA-A0AA-77F3E85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3B45-61D1-4D9D-A127-97DE97A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7A53-6847-44E7-B86B-8B00E8C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0CD5-006F-4AE6-B4C2-0DE74C4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0456-4CF2-44F8-860F-71A0014B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31A5-791A-4F60-8BA8-2568AB70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7FDD-AD2E-4A10-ADAA-2BD8BBB4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3DAA-EE5D-40E2-A2FE-8E8C03F3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8322-9FDB-4377-82D0-F9240054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5288-BF33-404F-BFD2-C351A83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BAD-00C3-4E7C-90EC-82BDE8F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3CDC-BA68-43DB-938A-9494A50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20AA-0C79-43C0-8CCB-9B76DA2F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59F8-9BB3-473C-A890-635B9BD8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F4FC3-4F3D-48AD-9B2C-85A9EB4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D8925-6CC5-4AE3-BAA2-70C1FD4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4115-7757-4010-B083-54BFBF9D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3187-2069-40C3-B811-26CB56DD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BFB9-5D75-4C84-A244-B7C058F7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E3B7-02DA-4782-9CB4-66D12555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884B-79EC-4868-8409-11FDF537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392-39C3-413D-805A-6B2B1EA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B62F-0A1E-462D-89C7-1831423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BBA5-2DB5-4C2C-B795-8E1C13E7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BB31-7F89-4234-A9FF-E6CE50B5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DB73A-E7E1-4E28-96BD-90BF2E6D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7190-2577-41E4-A187-BD0E7C7A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B8B15-056D-4E90-B137-554E894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8F13A-05F0-45CD-A01C-9DA8A7E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05FE-3DFE-4DD9-B898-C4DE243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738A3-E3A9-44B5-96BC-8FE0DB20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BD95-8496-4DDD-AA1C-C635CF54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EE6-6027-45A5-807D-76DD399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F2EC-F61B-4A1E-B74D-F3D27DDB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2B2-F479-4275-BD8B-6142BBE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6FC-3699-4A54-9058-25A92E3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FB7-3CC6-4149-A1C6-C9B7E5A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6B2-73B1-4B6A-ADAF-8D9A3862B9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E45-5868-417D-8626-2B225A29C9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620-AD26-44E0-972A-2BBC4851BD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C47-F3B5-4B60-AABD-36E2E13F92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e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2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8a1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97b7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092-FA5E-46EF-BB2A-B1F375B291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Matt Gom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bating the Disadvantage (DA)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Block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ending a DA or multiple DA’s through the block? Follow these generic guidelines (see specific speech lectures for more specific rul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ever takes the counterplan should take the net benef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ever doesn’t have the counterplan should get the other DA and case if the 2N didn’t alread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y to keep LIKE WORLDS togeth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How to Extend a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“DA outweighs and turns the cas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wo: Any additional impacts if needed (no more than 2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Uniqueness deb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Link Deb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ve 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Uniqueness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p One: Extend your uniqueness by giving a short summary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Extend our PIT 6/20 evidence from the 1NC, The G20 Summit has just met and agreed upon an action plan to eliminate protectionist polici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ep Two: Evidence comparison, what makes yours better than their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dictive vs descrip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culative vs conclus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Negative Uniqueness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Indict their evidence if you didn’t alrea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the arguments abo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Uniqueness W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-2 more uniqueness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Link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ither Link or Impact will be where you spend the most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Extend 1NC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n’t just explain it generic – apply it to the af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lif 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peat Steps 2-4 from UQ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egative Impact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TE: SHOULD BE DONE AT TOP OF FLOW ON IMPACT CAL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One: Impact Calcul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 outweighs and turns the case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wo: Turns case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Three: Turns case car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p Four: New impact modu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NR on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hould usually be combined with either a CP or C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yout is same as 1N except should be ALL extensions, no new card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p of the flow: Explain what the aff DIDN’T 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en if” and “If I win” statem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NR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xt, Impacts all on top-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act Cal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urns Case (lots of allocation her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swering any cards or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ne by line extending 2NC cards and analysis using the formul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http://www.youtube.com/watch?v=93CsOgvNUo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3: Answering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USE YOUR AFF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oughout the following section I’ll show you how to use cards from your 1AC to win you the debate without needing to read new car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342"/>
                </a:solidFill>
                <a:latin typeface="Perpetua"/>
              </a:rPr>
              <a:t>http://www.youtube.com/watch?v=k2ZYIdmdx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One: What is a Disadvantage?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How to answer a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 categori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 –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why your advantages outweigh the D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 –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the squo has changed/something has triggered the link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 – The plan doesn’t cause the chan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– The squo causes the DA and plan solves 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 – their impact isn’t re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 – their impact is actually a good 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Strategie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ategy #1 for answering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Strategies Cont..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ategy #2 for answering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se outweig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Un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Double Turn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NOT read a link turn AND an impact turn: the link turn actually links you to the impact turn – you just flip the DA a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G: Buy America DA:  Original argument – plan increases protectionism.  Protectionism causes trade w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is – plan DECREASES protectionism.  Impact turn is Protectionism good. For example - Ste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Case Outweighs?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impact cal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on this l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re importantly, make your impact story a lot more clear than the negative impact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on-Unique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estimated argument – defensi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us Quo is the opposite of what they s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G: Buy America DA – US agrees on G20, proves no protection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Non-Unique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s your link/impact turn OFF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G: Link Turn – Plan key to RESTORING Non-Protection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/ NUQ: DA is a new advantage because squo isn’t cooperating and plan causes coopera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/o NUQ: still offense IF they go for the DA, but not a new advantage because the squo is ALREADY cooperating and the plan just causes MORE cooperation, doesn’t RESTORE i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Link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Link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applicable cards from 1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G: Extend our ____ evidence from the 1AC that says plan doesn’t happen alone, china and Euros are on board with 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ad New Link Cards and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1AC or 2AC cards and explain why the 2NC extension doesn’t answer the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ad 1-2 cards IF NECESSAR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Link Debating Cont..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k Turn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d Applicable Cards from 1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Cards &amp;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me as No Link 1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371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Impact Debating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Impact –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The plan encompasses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Car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hree: Analy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Uniquenes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will occur in the status qu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uniqu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t-dating – things ch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ink – why is the squo good but not guarante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ifications – who knows wh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Affirmative Impact Debate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Extensions of the 2A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Repeat steps 1-3 of 2AC for any NEW impact scenari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w Card (1) if necessary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SWER THE TURNS THE CASE ARGUMENT AS A NEW IMPACT SCENAR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13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Affirmative Impact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act Turn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One: Car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 Two: Maybe your 1AC has the opposite impac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342"/>
                </a:solidFill>
                <a:latin typeface="Franklin Gothic Book"/>
              </a:rPr>
              <a:t>Affirmative Impact Debating Cont…</a:t>
            </a:r>
            <a:endParaRPr b="0" lang="en-US" sz="36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15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One: Exten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Two: 1-2 more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Three: Response to negative answ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ep Four: Separate QUICK impact calc for impact tu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Strategie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y go for DA/Case: Spend 3 ½ on Case: If you win case, majority of the DA goes away because you should have more impac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y go for DA/CP: Spend More time on DA because CP is irrelevant without a N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Layout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08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p – Big explanation of impact calc, why your impact story is better, and use of 1AC as a big turn to the 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Uniqueness debate to makes turns off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 first, answer theirs n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2AR Layout cont…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Go for the impact or link TUR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 first, (If Impact, impact calc next), (If link, why your story is more plausible next), answer theirs las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ally, IF you have time, do the no link or no imp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2AR should be OFFENSE OFFENSE OFFEN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Link</a:t>
            </a: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does the plan do that changes the status qu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lin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cificity – links about the 1AC vs the resol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shold – is the plan enough to change the squ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versity – different ways the plan changes the squ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Internal Link (i/l)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that change cau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t always highlighted because it’s similar to the li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times they are warrants inside the lin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G: Auto Industry D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ngaging in Buy America policies departs from G20 norms which collapses global trade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08a1d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the internal link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Impacts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y is changing the status quo b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for good imp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gnitude – how bi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imeframe – how quick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bability – how like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urns case – how does it interact with the 1A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4342"/>
              </a:solidFill>
              <a:latin typeface="Perpet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rt Two: the Negative and running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The Negative’s Goal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aff has advantages, the neg ha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sadvant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a disadvantag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oss or Damage as a result of” – The harm the plan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ve the impacts of the plan aren’t good enough to outweigh the DA of the pl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34342"/>
                </a:solidFill>
                <a:latin typeface="Franklin Gothic Book"/>
              </a:rPr>
              <a:t>1NC: Your Job for the DA</a:t>
            </a:r>
            <a:endParaRPr b="0" lang="en-US" sz="4000" spc="-1" strike="noStrike">
              <a:solidFill>
                <a:srgbClr val="434342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re to read i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a net benefit to the CP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rectly after the CP flo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96a1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an independent D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ebf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fter everything but c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97b7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sure it has EVERY part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5:04:37Z</dcterms:created>
  <dc:creator>Matt</dc:creator>
  <dc:description/>
  <dc:language>en-US</dc:language>
  <cp:lastModifiedBy>The Adams Family</cp:lastModifiedBy>
  <dcterms:modified xsi:type="dcterms:W3CDTF">2012-08-29T13:15:00Z</dcterms:modified>
  <cp:revision>28</cp:revision>
  <dc:subject/>
  <dc:title>Debating the Disadvantage (DA)</dc:title>
</cp:coreProperties>
</file>